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1BD-B8E1-45C0-AFC4-908F112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D0F-7D69-4368-8473-9693BDB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9BD-13C5-4DB7-839E-5D17F307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9FA-B304-4B6B-B0E3-3393967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03E40-CAA5-46E6-AF55-D7DAE988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D1283-5C79-4772-AE2F-0BCFE3A2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3377-2AB4-4A74-936A-F076197D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04790-AEB1-45D2-9E76-41E9BC6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BCA31-CE64-4059-9F03-382A6E4A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453D4-7AC5-4EE2-BCB2-193624B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10FD-D360-4B5D-B27C-3BFB132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9CD-CB7B-42A2-BD79-FF98411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BFEE6-8A16-4B49-B463-F511115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63034-6C13-43B9-B04C-7582EC9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0ED2C-D42B-41D5-9AE2-F169305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BE7B3-4D2B-4F49-B543-2E1306A4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6079-4869-4E3B-A013-F874E59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C3F-E356-45A2-A46C-230464B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143-3C48-4F0C-B8E1-BCF0B038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F36-AA24-47F0-B378-817CBD1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56B-A08A-44E9-A686-D052913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B6A-F25A-46CC-8D29-2C595AD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73C-7A0F-49C1-9AF0-9A86CEF5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E98-9961-4351-8F6F-C9F799C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2828-F682-4929-922D-7EF145525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E48-E3BB-404E-84F0-FC1CAA604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876920" y="5638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 vi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 rot="20904600">
            <a:off x="380520" y="1143000"/>
            <a:ext cx="228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ieten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91520" y="114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95480" y="243828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505320" y="2666880"/>
            <a:ext cx="1985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52 0.17939 C -0.42378 0.16736 -0.42378 0.15463 -0.41962 0.14375 C -0.41736 0.13796 -0.41285 0.13402 -0.41042 0.12824 C -0.40903 0.12523 -0.40851 0.12152 -0.40677 0.11898 C -0.4033 0.11365 -0.39531 0.11203 -0.39062 0.10949 C -0.38594 0.10995 -0.38125 0.10995 -0.37656 0.11111 C -0.36823 0.11296 -0.36042 0.11898 -0.35226 0.12199 C -0.34236 0.13078 -0.33403 0.13935 -0.32778 0.153 C -0.32431 0.175 -0.32535 0.19513 -0.32778 0.21805 C -0.32795 0.21944 -0.32934 0.22013 -0.33003 0.22129 C -0.33264 0.22638 -0.33472 0.23171 -0.33715 0.2368 C -0.34792 0.26041 -0.35833 0.28634 -0.38003 0.29421 C -0.38472 0.29814 -0.38993 0.2993 -0.39514 0.30185 C -0.40417 0.29976 -0.41319 0.29838 -0.42205 0.2956 C -0.42934 0.29328 -0.43455 0.28148 -0.44167 0.2787 C -0.44722 0.27129 -0.45417 0.26504 -0.46146 0.26157 C -0.4651 0.25463 -0.46701 0.25115 -0.4684 0.24282 C -0.46806 0.22939 -0.4691 0.21574 -0.46736 0.20254 C -0.46667 0.19722 -0.46302 0.19351 -0.46146 0.18865 C -0.44896 0.15092 -0.47014 0.20393 -0.45451 0.16851 C -0.45087 0.16041 -0.44878 0.15648 -0.44288 0.15138 C -0.43976 0.14884 -0.43247 0.14675 -0.43247 0.14699 C -0.43056 0.13958 -0.42309 0.13564 -0.4184 0.13125 C -0.41701 0.12986 -0.41632 0.12777 -0.41493 0.12662 C -0.4059 0.11851 -0.41719 0.13263 -0.40799 0.12199 C -0.40243 0.11574 -0.39896 0.11018 -0.39167 0.1081 C -0.38021 0.09745 -0.36215 0.09421 -0.34878 0.09259 C -0.33872 0.09305 -0.32847 0.09282 -0.3184 0.09421 C -0.31302 0.0949 -0.31076 0.10277 -0.30573 0.10486 C -0.29618 0.11412 -0.28611 0.12175 -0.27656 0.13125 C -0.27587 0.13379 -0.27535 0.13657 -0.27431 0.13912 C -0.27187 0.1449 -0.26615 0.15601 -0.26615 0.15625 C -0.26458 0.16666 -0.26198 0.17847 -0.2592 0.18865 C -0.2599 0.20463 -0.2599 0.22083 -0.26146 0.2368 C -0.26181 0.24027 -0.26389 0.24282 -0.26493 0.24606 C -0.26771 0.25416 -0.26892 0.26296 -0.27205 0.27083 C -0.27344 0.2743 -0.27604 0.27685 -0.27778 0.28009 C -0.28524 0.29467 -0.29167 0.30949 -0.29983 0.32361 C -0.30469 0.33194 -0.31424 0.33472 -0.32083 0.33912 C -0.33108 0.34606 -0.34184 0.34907 -0.3533 0.35138 C -0.3901 0.34976 -0.42708 0.35069 -0.46389 0.34675 C -0.47604 0.34537 -0.49167 0.33148 -0.50451 0.32824 C -0.50799 0.32569 -0.51128 0.32245 -0.51493 0.32037 C -0.5191 0.31782 -0.52378 0.31736 -0.52778 0.31435 C -0.5316 0.31157 -0.53437 0.30648 -0.53819 0.30347 C -0.54062 0.30138 -0.54392 0.30092 -0.54635 0.29884 C -0.55278 0.29351 -0.55781 0.28472 -0.56389 0.2787 C -0.56719 0.27175 -0.56806 0.26481 -0.56962 0.25694 C -0.56892 0.23935 -0.56858 0.22175 -0.56736 0.20416 C -0.56562 0.18078 -0.54948 0.15949 -0.54167 0.1405 C -0.52639 0.10324 -0.50139 0.07361 -0.46962 0.0662 C -0.46319 0.06203 -0.4566 0.06018 -0.44983 0.05833 C -0.40104 0.05949 -0.35208 0.05949 -0.3033 0.06157 C -0.29149 0.06203 -0.26163 0.07824 -0.25104 0.08935 C -0.24705 0.09351 -0.24219 0.09583 -0.23819 0.10023 C -0.23524 0.10347 -0.23003 0.11111 -0.23003 0.11134 C -0.22708 0.12152 -0.22187 0.12963 -0.21962 0.1405 C -0.21875 0.14513 -0.21736 0.15463 -0.21736 0.15486 C -0.21806 0.19583 -0.20486 0.28055 -0.22899 0.32824 C -0.23368 0.35092 -0.2276 0.32754 -0.24288 0.35763 C -0.25191 0.37569 -0.26667 0.39143 -0.28125 0.40115 C -0.28385 0.40277 -0.28681 0.40277 -0.28941 0.40416 C -0.30486 0.41296 -0.31806 0.42291 -0.33472 0.42754 C -0.34757 0.43611 -0.35729 0.43703 -0.37205 0.43819 C -0.4092 0.43564 -0.44653 0.43518 -0.48351 0.43055 C -0.49288 0.42939 -0.51753 0.41435 -0.52778 0.41041 C -0.53993 0.39884 -0.55365 0.38935 -0.56389 0.37476 C -0.57292 0.36203 -0.57344 0.35486 -0.58003 0.3405 C -0.58802 0.32338 -0.5901 0.325 -0.59635 0.30486 C -0.60087 0.29004 -0.60538 0.26898 -0.6092 0.25231 C -0.61128 0.22638 -0.61667 0.19513 -0.60451 0.17314 C -0.60243 0.1625 -0.59618 0.15439 -0.59167 0.14537 C -0.58507 0.13194 -0.5783 0.11851 -0.57205 0.10486 C -0.56389 0.08726 -0.55625 0.06967 -0.54757 0.05231 C -0.54392 0.04513 -0.54201 0.03611 -0.53715 0.03055 C -0.52292 0.01435 -0.50955 0.0037 -0.4941 -0.00973 C -0.47795 -0.02385 -0.46267 -0.04167 -0.44514 -0.05325 C -0.4276 -0.06505 -0.4092 -0.07153 -0.39062 -0.07963 C -0.36962 -0.08866 -0.35087 -0.09769 -0.32899 -0.09977 C -0.30139 -0.09931 -0.27396 -0.1 -0.24635 -0.09815 C -0.225 -0.09676 -0.19861 -0.0794 -0.18003 -0.07014 C -0.15278 -0.05649 -0.12587 -0.04792 -0.10226 -0.02385 C -0.09392 -0.01528 -0.07674 0.000920000000000001 -0.07083 0.01203 C -0.06597 0.02106 -0.06302 0.03009 -0.05677 0.03819 C -0.0533 0.04768 -0.04948 0.05648 -0.04635 0.0662 C -0.04497 0.07037 -0.04167 0.0787 -0.04167 0.07893 C -0.0401 0.09027 -0.03767 0.1037 -0.03351 0.11435 C -0.03316 0.11689 -0.03316 0.11967 -0.03247 0.12199 C -0.03194 0.12384 -0.03056 0.12476 -0.03003 0.12662 C -0.02812 0.13356 -0.02795 0.13981 -0.02552 0.14675 C -0.0224 0.17106 -0.00417 0.19282 -0.02552 0.22129 C -0.03299 0.24213 -0.04444 0.24282 -0.06042 0.24444 C -0.06701 0.24606 -0.07361 0.24699 -0.08003 0.24907 C -0.08247 0.24814 -0.08542 0.24838 -0.08715 0.24606 C -0.09566 0.23402 -0.10729 0.19328 -0.12083 0.18703 C -0.12378 0.1831 -0.12726 0.18032 -0.13003 0.17592 C -0.13212 0.16828 -0.13125 0.17314 -0.13125 0.16088 E">
                                      <p:cBhvr>
                                        <p:cTn id="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4.44444E-006 L 0.76667 -0.42222 E">
                                      <p:cBhvr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833 -0.67778 E">
                                      <p:cBhvr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15833 0.25555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20834 0.03334 E">
                                      <p:cBhvr>
                                        <p:cTn id="6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18333 0.28889 E">
                                      <p:cBhvr>
                                        <p:cTn id="9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4167 -0.38888 E">
                                      <p:cBhvr>
                                        <p:cTn id="10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8:43:40Z</dcterms:created>
  <dc:creator>Bianca</dc:creator>
  <dc:description/>
  <dc:language>en-US</dc:language>
  <cp:lastModifiedBy>lau</cp:lastModifiedBy>
  <dcterms:modified xsi:type="dcterms:W3CDTF">2008-05-04T11:02:37Z</dcterms:modified>
  <cp:revision>2</cp:revision>
  <dc:subject/>
  <dc:title>Slide 1</dc:title>
</cp:coreProperties>
</file>